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12038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2653-8D59-4E55-B440-BC7C0842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E40C-C92F-4CD2-87DF-EAE488C9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12D8-797B-4986-ADB5-3ADE7E80C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F141-67DB-4491-BE8B-EA57836CE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6126-6E48-4607-931F-3D5265613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0822-BB89-4CFA-94C3-62BF6416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92D3-E688-490E-98F8-26003D3D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0049-00F5-4C61-9149-306E98E5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9779-805A-49DA-8F7C-66A1ED3C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6DDB-E965-4C22-B9FE-93769403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BFA8-D84E-4C42-AFD0-84BCEB98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543E-C697-4CBB-AC38-70CCAEFF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CDFD-08B3-4335-81CF-9EDC074B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1144-CCA5-4476-85D7-11CC6F51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39A9-8F7B-4160-BB5D-7D20F9FA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5324-C5E9-4105-839D-79D71A13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044F-17C5-4C4E-80E9-C8E66EA3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0915B-9B7C-487C-89D8-25C1524B3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ED2B4-AEB1-42F0-ABFF-E5C95E02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19C89-97C1-472B-B589-77A0C40D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7DC7A-8508-4507-8008-23812B2D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73D30-16AB-401E-8288-E0C3BF32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6F12-498F-4A49-A490-99A93707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28890-367A-4FE3-9B98-D56D38D1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C9B92-9C70-4149-8A72-D992B4D3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EF48D-FDC9-4B0D-B114-324E3DB2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B9F02-17D1-4B70-9AC2-16729CCE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539FA-6EA0-446D-A285-1D52436B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A9F15-6596-458E-9CEB-C4A32F2F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E01A5-C92F-46DC-B799-2CBF7ABA7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71CB-3E2D-4E03-AE6A-1BBFA373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46BA-9B2D-4CE5-914E-B3777292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5556-8741-45E9-BA44-0B4D0EA3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469C-8C69-4427-8870-6C42E474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9843-0195-497D-87E4-5C8D176D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148B-CAF8-414F-AD58-0588D699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F0C6-F0B3-472D-92EB-7EE7DEFB945E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DB7A-CA41-4560-8F4B-670DA200FE2C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38FF-EB2A-424B-93B2-E219BC019048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Blue Whal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898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28" name="Picture 5" descr="whale"/>
          <p:cNvPicPr/>
          <p:nvPr/>
        </p:nvPicPr>
        <p:blipFill>
          <a:blip r:embed="rId2"/>
          <a:stretch/>
        </p:blipFill>
        <p:spPr>
          <a:xfrm>
            <a:off x="380880" y="304920"/>
            <a:ext cx="8458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3 things I know about the anima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e under wate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y are hug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re are more than 1, 000, 000 speci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7c9f"/>
                </a:solidFill>
                <a:latin typeface="News Gothic MT"/>
              </a:rPr>
              <a:t>3 things I found on the internet about my animal</a:t>
            </a:r>
            <a:endParaRPr b="0" lang="en-US" sz="4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y are the largest mamma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y prefer warmer wate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y eat krill, small fish, and squi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eferenc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rue wild lif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Google imag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9:48:05Z</dcterms:created>
  <dc:creator>T.A.Sinas</dc:creator>
  <dc:description/>
  <dc:language>en-US</dc:language>
  <cp:lastModifiedBy>Robyn MacFarlane</cp:lastModifiedBy>
  <dcterms:modified xsi:type="dcterms:W3CDTF">2012-10-29T22:17:41Z</dcterms:modified>
  <cp:revision>3</cp:revision>
  <dc:subject/>
  <dc:title>Blue Whale</dc:title>
</cp:coreProperties>
</file>